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B41-031D-450F-8B34-966AF673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8E1-4D6D-4226-8F6E-0B404043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F15-80DB-4F57-9318-D41AA340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FEE-0709-4A28-816D-AB7ABB28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F03-58BA-4E7B-8AE4-1DBF6321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153-E9AF-4F1E-8348-A1EFBF17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2D3-C5F8-4430-8293-784A8BBB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A4E-6853-43C8-B1E4-7D5F52F4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130-8E41-4260-8840-AA32358A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114-E56A-4EDE-BD67-3DF9CAE5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E1F-CA61-4ECA-8934-DFFB0038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158-485F-4BB7-87D4-3EC4D731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4BA819-C417-47EF-B5A8-8E27E535D8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17.1: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New Fronti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. New Frontier Agen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artment of Urban Aff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Today: Dept. of Housing and Urban Development – increase homeownership, urban development, affordable housing free from discr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4. Democratic Congres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Composed mainly of Southern Democrats who felt his agenda was too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2062080" cy="3352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629400" y="3276720"/>
            <a:ext cx="22906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. Successes and Setback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. Created jobs through deficit spending; spac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. Asked co. to keep prices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. Asked union to not ask for ra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. Increase minimum w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. Developing ho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2. Setb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. Tax c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b. Health ins for elde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c. Federal aid to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. Expanding Women’s Righ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action against gender discr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 Pay Act, 19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her Pet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Worked with his 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24280" y="1809720"/>
            <a:ext cx="411480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. The Disabl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Eunice Kennedy Sh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Educational and vocational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Construction of mental health ce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19720" y="2666880"/>
            <a:ext cx="450504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. Warren Cour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Man, One Vot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Reapportionment -  political districts based on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ynolds v. Si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196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Current system unconstitu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Rural areas had more representation than ur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rren Court, cont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Du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Every individual has the same rights in a court of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Federal Bill of Rights applied at the sta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5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Miranda v. Ariz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. Rights read to you at the time you are charged with a cr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6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Escobedo v. Illino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. If you ask for an attorney at the time of questioning, one must be mad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. Prayer and Priva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Public concerned with Cathol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Endorsed separation between church and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Birth Control allow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The students will be able to explain the successes and setbacks of Kennedy’s Ad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The students will be able to discuss what the Warren Court Reforms did for Ame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he students will be able to explain the differences between Kennedy and Nixon from viewing the deb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. Election of 196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nne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49356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49356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3 years 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49356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ho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49356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lthy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49356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 Right’s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5520" indent="-411120">
              <a:spcBef>
                <a:spcPts val="499"/>
              </a:spcBef>
              <a:buClr>
                <a:srgbClr val="ffffff"/>
              </a:buClr>
              <a:buFont typeface="Arial"/>
              <a:buAutoNum type="romanLcPeriod"/>
              <a:tabLst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MLK J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5520" indent="-411120">
              <a:spcBef>
                <a:spcPts val="499"/>
              </a:spcBef>
              <a:buClr>
                <a:srgbClr val="ffffff"/>
              </a:buClr>
              <a:buFont typeface="Arial"/>
              <a:buAutoNum type="romanLcPeriod"/>
              <a:tabLst>
                <a:tab algn="l" pos="1146240"/>
                <a:tab algn="l" pos="2060640"/>
                <a:tab algn="l" pos="2975040"/>
                <a:tab algn="l" pos="3889440"/>
                <a:tab algn="l" pos="4803840"/>
                <a:tab algn="l" pos="5718240"/>
                <a:tab algn="l" pos="6632640"/>
                <a:tab algn="l" pos="7547040"/>
                <a:tab algn="l" pos="8461440"/>
                <a:tab algn="l" pos="9375840"/>
                <a:tab algn="l" pos="1029024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with/for the AA 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2568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347760"/>
            <a:ext cx="7924680" cy="62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lection of 1960, cont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ix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Republic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Experie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Eisenhower’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Qua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Poor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Sweaty and nervo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9844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21000" y="304920"/>
            <a:ext cx="425124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622440"/>
            <a:ext cx="7848720" cy="57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11040"/>
            <a:ext cx="9144000" cy="62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5:35:38Z</dcterms:created>
  <dc:creator>School District U46</dc:creator>
  <dc:description/>
  <dc:language>en-US</dc:language>
  <cp:lastModifiedBy>School District U46</cp:lastModifiedBy>
  <dcterms:modified xsi:type="dcterms:W3CDTF">2011-03-02T13:39:01Z</dcterms:modified>
  <cp:revision>11</cp:revision>
  <dc:subject/>
  <dc:title>17.1: The New Frontier</dc:title>
</cp:coreProperties>
</file>